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A770-412C-4C63-83C6-F9D4C3358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9900-E9AF-4DDB-BC54-F2CE6BF43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B10F-6E66-4E05-907A-886388439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3C71-2DCE-42A2-A8F5-2C3BEE860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E326-12A0-4F03-991D-0655473F0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CEC0-4C71-40F4-BEA7-998AED2BB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43AE-4D75-4533-913D-E9EDA6B3A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1646-E595-42A6-A724-40393BAA3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12C5-93B9-4D13-8D04-06C52C382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637D-CDFC-4BF8-8FA2-0AE06177D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C7C9-30E5-4703-AD35-0BA5090F8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0F84-958E-49A7-8C1F-9984C5DCE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BBEBB5BD-0B09-408F-9DC0-051D5662AA52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9515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5951520"/>
            <a:ext cx="9144000" cy="906480"/>
          </a:xfrm>
          <a:prstGeom prst="rect">
            <a:avLst/>
          </a:prstGeom>
          <a:solidFill>
            <a:srgbClr val="604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2"/>
          </p:nvPr>
        </p:nvSpPr>
        <p:spPr>
          <a:xfrm>
            <a:off x="668160" y="6244920"/>
            <a:ext cx="801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0870B58C-6EFA-41EF-978F-0BA0CB0E49C7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3"/>
          </p:nvPr>
        </p:nvSpPr>
        <p:spPr>
          <a:xfrm>
            <a:off x="696960" y="6244920"/>
            <a:ext cx="798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EAA70E38-CFB3-44FB-A779-200046533BAD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89000" y="5240160"/>
            <a:ext cx="8766000" cy="13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. 14: Presentations with Graphics and 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89:  Adding Graphics to S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Add Sound to Slid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g sound icon off slide so it is not displayed on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each sound to start automatically or on mouse cl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nd delete                               the sound icon to                          remove a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9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ACC852BE-2838-416A-B737-F4139F82D628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5200560" y="3351240"/>
            <a:ext cx="35593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Add Sound to Slid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36520" y="1568520"/>
            <a:ext cx="64548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dd s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, Audio (from file, ClipArt, or Reco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File: it should be a .wav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ClipArt: Results should be set to A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Recording:  Record your own voice at your compu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9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E8670F8A-8B27-4699-B8E3-BA6A61E4966D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rcRect l="63575" t="4379" r="0" b="35433"/>
          <a:stretch/>
        </p:blipFill>
        <p:spPr>
          <a:xfrm>
            <a:off x="6491160" y="1611360"/>
            <a:ext cx="2500560" cy="258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reating Graphic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hapes &amp; designs to enhance your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WordArt, text boxes, &amp; shapes to add to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ame procedure as you did in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9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1E82ECE5-2B73-4BF2-8BC8-AAB7A5B30335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reating Slide Graphic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63600" y="1600200"/>
            <a:ext cx="8518320" cy="22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gridlines and grouping a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ng more than one shape at a time – use Ctrl Key as you cl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9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F0D230C6-E392-4992-B39F-1CBC1AF44659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2224080" y="3473280"/>
            <a:ext cx="491652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reating Slide Graphic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22000" y="1600200"/>
            <a:ext cx="8418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idlin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ew Ribbon, Check Gridlines to view on your sl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y don’t show during presentation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 the lines in the Shapes to connect boxes or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ttin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ll &amp; outline are the same as in Wo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Drawing Format Ribbon when shape is s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 89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AAAB0C23-A774-4CB0-BC9D-319C9B851AE3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hange Theme for </a:t>
            </a:r>
            <a:br>
              <a:rPr sz="4000"/>
            </a:b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elected Slid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click on desired the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9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6D7292CE-0DBC-4731-AA7D-A220CDAABE67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409760" y="2271600"/>
            <a:ext cx="677556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ormat Slide Background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84080" y="1600200"/>
            <a:ext cx="790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mat Background Dialog Box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Ribbon, Background Group, click the Options 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 89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F3BC1311-0FA4-4ECF-AFFF-EBBDA4696B02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625320" y="3006720"/>
            <a:ext cx="776448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lide Sorter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ide Sorter view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hrough the View Ribb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you to rearrange slides eas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you to view entire presentation eas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 Sorter button is also located on Status bar on right side by zoom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 89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3AA524EC-90E2-4825-9B56-BA5A0F69AB7E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2552760" y="5167440"/>
            <a:ext cx="4763880" cy="942840"/>
          </a:xfrm>
          <a:prstGeom prst="rect">
            <a:avLst/>
          </a:prstGeom>
          <a:ln w="0">
            <a:noFill/>
          </a:ln>
        </p:spPr>
      </p:pic>
      <p:cxnSp>
        <p:nvCxnSpPr>
          <p:cNvPr id="196" name="Straight Arrow Connector 2"/>
          <p:cNvCxnSpPr/>
          <p:nvPr/>
        </p:nvCxnSpPr>
        <p:spPr>
          <a:xfrm>
            <a:off x="1483920" y="5638320"/>
            <a:ext cx="1818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TextBox 3"/>
          <p:cNvSpPr/>
          <p:nvPr/>
        </p:nvSpPr>
        <p:spPr>
          <a:xfrm>
            <a:off x="534960" y="4979880"/>
            <a:ext cx="143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 Sorter View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lide Sorter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9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2D3E4483-9D62-4D14-BD5B-E3CC059C19C6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1004760" y="1704960"/>
            <a:ext cx="769644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ound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49280" y="1509480"/>
            <a:ext cx="823752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oun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exci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 transition betwee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music and sounds from files or recor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should be played when you are not tal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uter must have speakers and a sound card to play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9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77D4AB36-A918-45E4-9106-E74952401F46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2"/>
          <p:cNvGrpSpPr/>
          <p:nvPr/>
        </p:nvGrpSpPr>
        <p:grpSpPr>
          <a:xfrm>
            <a:off x="6232680" y="800280"/>
            <a:ext cx="2118960" cy="2104560"/>
            <a:chOff x="6232680" y="800280"/>
            <a:chExt cx="2118960" cy="2104560"/>
          </a:xfrm>
        </p:grpSpPr>
        <p:sp>
          <p:nvSpPr>
            <p:cNvPr id="205" name="Film"/>
            <p:cNvSpPr/>
            <p:nvPr/>
          </p:nvSpPr>
          <p:spPr>
            <a:xfrm>
              <a:off x="6232680" y="1336320"/>
              <a:ext cx="884160" cy="1568520"/>
            </a:xfrm>
            <a:custGeom>
              <a:avLst/>
              <a:gdLst>
                <a:gd name="textAreaLeft" fmla="*/ 203400 w 884160"/>
                <a:gd name="textAreaRight" fmla="*/ 699120 w 884160"/>
                <a:gd name="textAreaTop" fmla="*/ 590400 h 1568520"/>
                <a:gd name="textAreaBottom" fmla="*/ 975240 h 156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Sound"/>
            <p:cNvSpPr/>
            <p:nvPr/>
          </p:nvSpPr>
          <p:spPr>
            <a:xfrm>
              <a:off x="6743880" y="800280"/>
              <a:ext cx="1228680" cy="1040040"/>
            </a:xfrm>
            <a:custGeom>
              <a:avLst/>
              <a:gdLst>
                <a:gd name="textAreaLeft" fmla="*/ 13320 w 1228680"/>
                <a:gd name="textAreaRight" fmla="*/ 612360 w 1228680"/>
                <a:gd name="textAreaTop" fmla="*/ 365760 h 1040040"/>
                <a:gd name="textAreaBottom" fmla="*/ 652680 h 104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273"/>
                  </a:moveTo>
                  <a:lnTo>
                    <a:pt x="5824" y="7273"/>
                  </a:lnTo>
                  <a:lnTo>
                    <a:pt x="11164" y="0"/>
                  </a:lnTo>
                  <a:lnTo>
                    <a:pt x="11164" y="21159"/>
                  </a:lnTo>
                  <a:lnTo>
                    <a:pt x="5824" y="13885"/>
                  </a:lnTo>
                  <a:lnTo>
                    <a:pt x="0" y="13885"/>
                  </a:lnTo>
                  <a:lnTo>
                    <a:pt x="0" y="7273"/>
                  </a:lnTo>
                  <a:close/>
                </a:path>
                <a:path w="21600" h="21600">
                  <a:moveTo>
                    <a:pt x="13024" y="7273"/>
                  </a:moveTo>
                  <a:lnTo>
                    <a:pt x="13591" y="6722"/>
                  </a:lnTo>
                  <a:lnTo>
                    <a:pt x="13833" y="7548"/>
                  </a:lnTo>
                  <a:lnTo>
                    <a:pt x="14076" y="8485"/>
                  </a:lnTo>
                  <a:lnTo>
                    <a:pt x="14157" y="9367"/>
                  </a:lnTo>
                  <a:lnTo>
                    <a:pt x="14197" y="10524"/>
                  </a:lnTo>
                  <a:lnTo>
                    <a:pt x="14197" y="11406"/>
                  </a:lnTo>
                  <a:lnTo>
                    <a:pt x="14116" y="12012"/>
                  </a:lnTo>
                  <a:lnTo>
                    <a:pt x="13995" y="12728"/>
                  </a:lnTo>
                  <a:lnTo>
                    <a:pt x="13833" y="13444"/>
                  </a:lnTo>
                  <a:lnTo>
                    <a:pt x="13712" y="14106"/>
                  </a:lnTo>
                  <a:lnTo>
                    <a:pt x="13591" y="14546"/>
                  </a:lnTo>
                  <a:lnTo>
                    <a:pt x="13065" y="13885"/>
                  </a:lnTo>
                  <a:lnTo>
                    <a:pt x="13307" y="12893"/>
                  </a:lnTo>
                  <a:lnTo>
                    <a:pt x="13469" y="11791"/>
                  </a:lnTo>
                  <a:lnTo>
                    <a:pt x="13550" y="10910"/>
                  </a:lnTo>
                  <a:lnTo>
                    <a:pt x="13591" y="10138"/>
                  </a:lnTo>
                  <a:lnTo>
                    <a:pt x="13469" y="9367"/>
                  </a:lnTo>
                  <a:lnTo>
                    <a:pt x="13388" y="8595"/>
                  </a:lnTo>
                  <a:lnTo>
                    <a:pt x="13267" y="7934"/>
                  </a:lnTo>
                  <a:lnTo>
                    <a:pt x="13024" y="7273"/>
                  </a:lnTo>
                  <a:close/>
                </a:path>
                <a:path w="21600" h="21600">
                  <a:moveTo>
                    <a:pt x="16382" y="3967"/>
                  </a:moveTo>
                  <a:lnTo>
                    <a:pt x="16786" y="5179"/>
                  </a:lnTo>
                  <a:lnTo>
                    <a:pt x="17150" y="6612"/>
                  </a:lnTo>
                  <a:lnTo>
                    <a:pt x="17474" y="8651"/>
                  </a:lnTo>
                  <a:lnTo>
                    <a:pt x="17595" y="9753"/>
                  </a:lnTo>
                  <a:lnTo>
                    <a:pt x="17635" y="12012"/>
                  </a:lnTo>
                  <a:lnTo>
                    <a:pt x="17393" y="13665"/>
                  </a:lnTo>
                  <a:lnTo>
                    <a:pt x="17150" y="15208"/>
                  </a:lnTo>
                  <a:lnTo>
                    <a:pt x="16786" y="16310"/>
                  </a:lnTo>
                  <a:lnTo>
                    <a:pt x="16341" y="17687"/>
                  </a:lnTo>
                  <a:lnTo>
                    <a:pt x="15815" y="17081"/>
                  </a:lnTo>
                  <a:lnTo>
                    <a:pt x="16503" y="14602"/>
                  </a:lnTo>
                  <a:lnTo>
                    <a:pt x="16786" y="13169"/>
                  </a:lnTo>
                  <a:lnTo>
                    <a:pt x="16867" y="12012"/>
                  </a:lnTo>
                  <a:lnTo>
                    <a:pt x="16867" y="9642"/>
                  </a:lnTo>
                  <a:lnTo>
                    <a:pt x="16705" y="7989"/>
                  </a:lnTo>
                  <a:lnTo>
                    <a:pt x="16422" y="6612"/>
                  </a:lnTo>
                  <a:lnTo>
                    <a:pt x="16220" y="5675"/>
                  </a:lnTo>
                  <a:lnTo>
                    <a:pt x="15856" y="4518"/>
                  </a:lnTo>
                  <a:lnTo>
                    <a:pt x="16382" y="3967"/>
                  </a:lnTo>
                  <a:close/>
                </a:path>
                <a:path w="21600" h="21600">
                  <a:moveTo>
                    <a:pt x="18889" y="1377"/>
                  </a:moveTo>
                  <a:lnTo>
                    <a:pt x="19415" y="826"/>
                  </a:lnTo>
                  <a:lnTo>
                    <a:pt x="20194" y="2576"/>
                  </a:lnTo>
                  <a:lnTo>
                    <a:pt x="20831" y="4683"/>
                  </a:lnTo>
                  <a:lnTo>
                    <a:pt x="21357" y="7204"/>
                  </a:lnTo>
                  <a:lnTo>
                    <a:pt x="21650" y="9450"/>
                  </a:lnTo>
                  <a:lnTo>
                    <a:pt x="21600" y="12301"/>
                  </a:lnTo>
                  <a:lnTo>
                    <a:pt x="21215" y="15938"/>
                  </a:lnTo>
                  <a:lnTo>
                    <a:pt x="20629" y="18348"/>
                  </a:lnTo>
                  <a:lnTo>
                    <a:pt x="19415" y="21655"/>
                  </a:lnTo>
                  <a:lnTo>
                    <a:pt x="18889" y="21159"/>
                  </a:lnTo>
                  <a:lnTo>
                    <a:pt x="19901" y="18404"/>
                  </a:lnTo>
                  <a:lnTo>
                    <a:pt x="20467" y="15593"/>
                  </a:lnTo>
                  <a:lnTo>
                    <a:pt x="20791" y="12342"/>
                  </a:lnTo>
                  <a:lnTo>
                    <a:pt x="20871" y="9532"/>
                  </a:lnTo>
                  <a:lnTo>
                    <a:pt x="20629" y="7411"/>
                  </a:lnTo>
                  <a:lnTo>
                    <a:pt x="20062" y="4628"/>
                  </a:lnTo>
                  <a:lnTo>
                    <a:pt x="19415" y="2810"/>
                  </a:lnTo>
                  <a:lnTo>
                    <a:pt x="18889" y="137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Photo"/>
            <p:cNvSpPr/>
            <p:nvPr/>
          </p:nvSpPr>
          <p:spPr>
            <a:xfrm>
              <a:off x="7211520" y="1417680"/>
              <a:ext cx="1140120" cy="942480"/>
            </a:xfrm>
            <a:custGeom>
              <a:avLst/>
              <a:gdLst>
                <a:gd name="textAreaLeft" fmla="*/ 410400 w 1140120"/>
                <a:gd name="textAreaRight" fmla="*/ 726120 w 1140120"/>
                <a:gd name="textAreaTop" fmla="*/ 358920 h 942480"/>
                <a:gd name="textAreaBottom" fmla="*/ 736920 h 94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3085"/>
                  </a:lnTo>
                  <a:lnTo>
                    <a:pt x="1542" y="3085"/>
                  </a:lnTo>
                  <a:lnTo>
                    <a:pt x="1542" y="1028"/>
                  </a:lnTo>
                  <a:lnTo>
                    <a:pt x="3857" y="1028"/>
                  </a:lnTo>
                  <a:lnTo>
                    <a:pt x="3857" y="3085"/>
                  </a:lnTo>
                  <a:lnTo>
                    <a:pt x="5400" y="3085"/>
                  </a:lnTo>
                  <a:lnTo>
                    <a:pt x="6942" y="0"/>
                  </a:lnTo>
                  <a:lnTo>
                    <a:pt x="14657" y="0"/>
                  </a:lnTo>
                  <a:lnTo>
                    <a:pt x="16200" y="3085"/>
                  </a:ln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0" y="3085"/>
                  </a:move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3085"/>
                  </a:lnTo>
                  <a:close/>
                </a:path>
                <a:path w="21600" h="21600">
                  <a:moveTo>
                    <a:pt x="10800" y="4800"/>
                  </a:moveTo>
                  <a:lnTo>
                    <a:pt x="11925" y="4971"/>
                  </a:lnTo>
                  <a:lnTo>
                    <a:pt x="13017" y="5442"/>
                  </a:lnTo>
                  <a:lnTo>
                    <a:pt x="14046" y="6128"/>
                  </a:lnTo>
                  <a:lnTo>
                    <a:pt x="14914" y="7071"/>
                  </a:lnTo>
                  <a:lnTo>
                    <a:pt x="15621" y="8271"/>
                  </a:lnTo>
                  <a:lnTo>
                    <a:pt x="16167" y="9514"/>
                  </a:lnTo>
                  <a:lnTo>
                    <a:pt x="16425" y="11014"/>
                  </a:lnTo>
                  <a:lnTo>
                    <a:pt x="16585" y="12471"/>
                  </a:lnTo>
                  <a:lnTo>
                    <a:pt x="16489" y="14014"/>
                  </a:lnTo>
                  <a:lnTo>
                    <a:pt x="16135" y="15471"/>
                  </a:lnTo>
                  <a:lnTo>
                    <a:pt x="15621" y="16800"/>
                  </a:lnTo>
                  <a:lnTo>
                    <a:pt x="14914" y="18000"/>
                  </a:lnTo>
                  <a:lnTo>
                    <a:pt x="14046" y="18942"/>
                  </a:lnTo>
                  <a:lnTo>
                    <a:pt x="13050" y="19671"/>
                  </a:lnTo>
                  <a:lnTo>
                    <a:pt x="11925" y="20057"/>
                  </a:lnTo>
                  <a:lnTo>
                    <a:pt x="10832" y="20185"/>
                  </a:lnTo>
                  <a:lnTo>
                    <a:pt x="9675" y="20142"/>
                  </a:lnTo>
                  <a:lnTo>
                    <a:pt x="8582" y="19628"/>
                  </a:lnTo>
                  <a:lnTo>
                    <a:pt x="7553" y="18942"/>
                  </a:lnTo>
                  <a:lnTo>
                    <a:pt x="6717" y="17957"/>
                  </a:lnTo>
                  <a:lnTo>
                    <a:pt x="5946" y="16842"/>
                  </a:lnTo>
                  <a:lnTo>
                    <a:pt x="5464" y="15514"/>
                  </a:lnTo>
                  <a:lnTo>
                    <a:pt x="5078" y="14014"/>
                  </a:lnTo>
                  <a:lnTo>
                    <a:pt x="5014" y="12514"/>
                  </a:lnTo>
                  <a:lnTo>
                    <a:pt x="5110" y="11014"/>
                  </a:lnTo>
                  <a:lnTo>
                    <a:pt x="5528" y="9557"/>
                  </a:lnTo>
                  <a:lnTo>
                    <a:pt x="6010" y="8228"/>
                  </a:lnTo>
                  <a:lnTo>
                    <a:pt x="6750" y="7114"/>
                  </a:lnTo>
                  <a:lnTo>
                    <a:pt x="7650" y="6085"/>
                  </a:lnTo>
                  <a:lnTo>
                    <a:pt x="8614" y="5400"/>
                  </a:lnTo>
                  <a:lnTo>
                    <a:pt x="9707" y="4971"/>
                  </a:lnTo>
                  <a:lnTo>
                    <a:pt x="10800" y="4800"/>
                  </a:lnTo>
                  <a:close/>
                </a:path>
                <a:path w="21600" h="21600">
                  <a:moveTo>
                    <a:pt x="8003" y="8057"/>
                  </a:moveTo>
                  <a:lnTo>
                    <a:pt x="8807" y="7371"/>
                  </a:lnTo>
                  <a:lnTo>
                    <a:pt x="9546" y="6985"/>
                  </a:lnTo>
                  <a:lnTo>
                    <a:pt x="10446" y="6771"/>
                  </a:lnTo>
                  <a:lnTo>
                    <a:pt x="11217" y="6771"/>
                  </a:lnTo>
                  <a:lnTo>
                    <a:pt x="12053" y="7028"/>
                  </a:lnTo>
                  <a:lnTo>
                    <a:pt x="12889" y="7457"/>
                  </a:lnTo>
                  <a:lnTo>
                    <a:pt x="13628" y="8100"/>
                  </a:lnTo>
                  <a:lnTo>
                    <a:pt x="14175" y="8871"/>
                  </a:lnTo>
                  <a:lnTo>
                    <a:pt x="14625" y="9814"/>
                  </a:lnTo>
                  <a:lnTo>
                    <a:pt x="14978" y="10885"/>
                  </a:lnTo>
                  <a:lnTo>
                    <a:pt x="15171" y="12042"/>
                  </a:lnTo>
                  <a:lnTo>
                    <a:pt x="15107" y="13114"/>
                  </a:lnTo>
                  <a:lnTo>
                    <a:pt x="15042" y="14228"/>
                  </a:lnTo>
                  <a:lnTo>
                    <a:pt x="14689" y="15257"/>
                  </a:lnTo>
                  <a:lnTo>
                    <a:pt x="14207" y="16285"/>
                  </a:lnTo>
                  <a:lnTo>
                    <a:pt x="13596" y="17057"/>
                  </a:lnTo>
                  <a:lnTo>
                    <a:pt x="12889" y="17657"/>
                  </a:lnTo>
                  <a:lnTo>
                    <a:pt x="12053" y="18085"/>
                  </a:lnTo>
                  <a:lnTo>
                    <a:pt x="11185" y="18257"/>
                  </a:lnTo>
                  <a:lnTo>
                    <a:pt x="10414" y="18214"/>
                  </a:lnTo>
                  <a:lnTo>
                    <a:pt x="9546" y="18042"/>
                  </a:lnTo>
                  <a:lnTo>
                    <a:pt x="8742" y="17614"/>
                  </a:lnTo>
                  <a:lnTo>
                    <a:pt x="8003" y="17014"/>
                  </a:lnTo>
                  <a:lnTo>
                    <a:pt x="7457" y="16242"/>
                  </a:lnTo>
                  <a:lnTo>
                    <a:pt x="6975" y="15257"/>
                  </a:lnTo>
                  <a:lnTo>
                    <a:pt x="6653" y="14142"/>
                  </a:lnTo>
                  <a:lnTo>
                    <a:pt x="6492" y="13114"/>
                  </a:lnTo>
                  <a:lnTo>
                    <a:pt x="6525" y="11914"/>
                  </a:lnTo>
                  <a:lnTo>
                    <a:pt x="6621" y="10842"/>
                  </a:lnTo>
                  <a:lnTo>
                    <a:pt x="6942" y="9771"/>
                  </a:lnTo>
                  <a:lnTo>
                    <a:pt x="7457" y="8785"/>
                  </a:lnTo>
                  <a:lnTo>
                    <a:pt x="8003" y="805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Music"/>
            <p:cNvSpPr/>
            <p:nvPr/>
          </p:nvSpPr>
          <p:spPr>
            <a:xfrm>
              <a:off x="7343280" y="1970280"/>
              <a:ext cx="934920" cy="911520"/>
            </a:xfrm>
            <a:custGeom>
              <a:avLst/>
              <a:gdLst>
                <a:gd name="textAreaLeft" fmla="*/ 345600 w 934920"/>
                <a:gd name="textAreaRight" fmla="*/ 905760 w 934920"/>
                <a:gd name="textAreaTop" fmla="*/ 39240 h 911520"/>
                <a:gd name="textAreaBottom" fmla="*/ 226080 h 91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7352" y="46"/>
                  </a:moveTo>
                  <a:lnTo>
                    <a:pt x="7373" y="9900"/>
                  </a:lnTo>
                  <a:lnTo>
                    <a:pt x="7352" y="16107"/>
                  </a:lnTo>
                  <a:lnTo>
                    <a:pt x="7103" y="15969"/>
                  </a:lnTo>
                  <a:lnTo>
                    <a:pt x="6729" y="15692"/>
                  </a:lnTo>
                  <a:lnTo>
                    <a:pt x="6355" y="15553"/>
                  </a:lnTo>
                  <a:lnTo>
                    <a:pt x="5981" y="15415"/>
                  </a:lnTo>
                  <a:lnTo>
                    <a:pt x="5607" y="15276"/>
                  </a:lnTo>
                  <a:lnTo>
                    <a:pt x="5109" y="15138"/>
                  </a:lnTo>
                  <a:lnTo>
                    <a:pt x="4735" y="15138"/>
                  </a:lnTo>
                  <a:lnTo>
                    <a:pt x="4236" y="15138"/>
                  </a:lnTo>
                  <a:lnTo>
                    <a:pt x="3364" y="15138"/>
                  </a:lnTo>
                  <a:lnTo>
                    <a:pt x="2616" y="15276"/>
                  </a:lnTo>
                  <a:lnTo>
                    <a:pt x="1869" y="15692"/>
                  </a:lnTo>
                  <a:lnTo>
                    <a:pt x="1246" y="15969"/>
                  </a:lnTo>
                  <a:lnTo>
                    <a:pt x="747" y="16523"/>
                  </a:lnTo>
                  <a:lnTo>
                    <a:pt x="373" y="17076"/>
                  </a:lnTo>
                  <a:lnTo>
                    <a:pt x="124" y="17630"/>
                  </a:lnTo>
                  <a:lnTo>
                    <a:pt x="0" y="18323"/>
                  </a:lnTo>
                  <a:lnTo>
                    <a:pt x="124" y="19015"/>
                  </a:lnTo>
                  <a:lnTo>
                    <a:pt x="373" y="19569"/>
                  </a:lnTo>
                  <a:lnTo>
                    <a:pt x="747" y="20123"/>
                  </a:lnTo>
                  <a:lnTo>
                    <a:pt x="1246" y="20676"/>
                  </a:lnTo>
                  <a:lnTo>
                    <a:pt x="1869" y="21092"/>
                  </a:lnTo>
                  <a:lnTo>
                    <a:pt x="2616" y="21369"/>
                  </a:lnTo>
                  <a:lnTo>
                    <a:pt x="3364" y="21507"/>
                  </a:lnTo>
                  <a:lnTo>
                    <a:pt x="4236" y="21646"/>
                  </a:lnTo>
                  <a:lnTo>
                    <a:pt x="5109" y="21507"/>
                  </a:lnTo>
                  <a:lnTo>
                    <a:pt x="5856" y="21369"/>
                  </a:lnTo>
                  <a:lnTo>
                    <a:pt x="6604" y="21092"/>
                  </a:lnTo>
                  <a:lnTo>
                    <a:pt x="7227" y="20676"/>
                  </a:lnTo>
                  <a:lnTo>
                    <a:pt x="7726" y="20123"/>
                  </a:lnTo>
                  <a:lnTo>
                    <a:pt x="8100" y="19569"/>
                  </a:lnTo>
                  <a:lnTo>
                    <a:pt x="8349" y="19015"/>
                  </a:lnTo>
                  <a:lnTo>
                    <a:pt x="8473" y="18323"/>
                  </a:lnTo>
                  <a:lnTo>
                    <a:pt x="8473" y="6276"/>
                  </a:lnTo>
                  <a:lnTo>
                    <a:pt x="20561" y="6276"/>
                  </a:lnTo>
                  <a:lnTo>
                    <a:pt x="20561" y="16107"/>
                  </a:lnTo>
                  <a:lnTo>
                    <a:pt x="20187" y="15830"/>
                  </a:lnTo>
                  <a:lnTo>
                    <a:pt x="19938" y="15692"/>
                  </a:lnTo>
                  <a:lnTo>
                    <a:pt x="19564" y="15553"/>
                  </a:lnTo>
                  <a:lnTo>
                    <a:pt x="19190" y="15415"/>
                  </a:lnTo>
                  <a:lnTo>
                    <a:pt x="18692" y="15276"/>
                  </a:lnTo>
                  <a:lnTo>
                    <a:pt x="18318" y="15138"/>
                  </a:lnTo>
                  <a:lnTo>
                    <a:pt x="17944" y="15138"/>
                  </a:lnTo>
                  <a:lnTo>
                    <a:pt x="17446" y="15138"/>
                  </a:lnTo>
                  <a:lnTo>
                    <a:pt x="16573" y="15138"/>
                  </a:lnTo>
                  <a:lnTo>
                    <a:pt x="15826" y="15276"/>
                  </a:lnTo>
                  <a:lnTo>
                    <a:pt x="15078" y="15692"/>
                  </a:lnTo>
                  <a:lnTo>
                    <a:pt x="14455" y="15969"/>
                  </a:lnTo>
                  <a:lnTo>
                    <a:pt x="13956" y="16523"/>
                  </a:lnTo>
                  <a:lnTo>
                    <a:pt x="13583" y="17076"/>
                  </a:lnTo>
                  <a:lnTo>
                    <a:pt x="13333" y="17630"/>
                  </a:lnTo>
                  <a:lnTo>
                    <a:pt x="13209" y="18323"/>
                  </a:lnTo>
                  <a:lnTo>
                    <a:pt x="13333" y="19015"/>
                  </a:lnTo>
                  <a:lnTo>
                    <a:pt x="13583" y="19569"/>
                  </a:lnTo>
                  <a:lnTo>
                    <a:pt x="13956" y="20123"/>
                  </a:lnTo>
                  <a:lnTo>
                    <a:pt x="14455" y="20676"/>
                  </a:lnTo>
                  <a:lnTo>
                    <a:pt x="15078" y="21092"/>
                  </a:lnTo>
                  <a:lnTo>
                    <a:pt x="15826" y="21369"/>
                  </a:lnTo>
                  <a:lnTo>
                    <a:pt x="16573" y="21507"/>
                  </a:lnTo>
                  <a:lnTo>
                    <a:pt x="17446" y="21646"/>
                  </a:lnTo>
                  <a:lnTo>
                    <a:pt x="18318" y="21507"/>
                  </a:lnTo>
                  <a:lnTo>
                    <a:pt x="19066" y="21369"/>
                  </a:lnTo>
                  <a:lnTo>
                    <a:pt x="19813" y="21092"/>
                  </a:lnTo>
                  <a:lnTo>
                    <a:pt x="20436" y="20676"/>
                  </a:lnTo>
                  <a:lnTo>
                    <a:pt x="20935" y="20123"/>
                  </a:lnTo>
                  <a:lnTo>
                    <a:pt x="21309" y="19569"/>
                  </a:lnTo>
                  <a:lnTo>
                    <a:pt x="21558" y="19015"/>
                  </a:lnTo>
                  <a:lnTo>
                    <a:pt x="21683" y="18323"/>
                  </a:lnTo>
                  <a:lnTo>
                    <a:pt x="21683" y="10061"/>
                  </a:lnTo>
                  <a:lnTo>
                    <a:pt x="21683" y="46"/>
                  </a:lnTo>
                  <a:lnTo>
                    <a:pt x="7352" y="4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01:26:03Z</dcterms:created>
  <dc:creator>Jean Bissell</dc:creator>
  <dc:description>Copyright 2006 South-Western/Thomson</dc:description>
  <dc:language>en-US</dc:language>
  <cp:lastModifiedBy>Lenessa Keehn</cp:lastModifiedBy>
  <dcterms:modified xsi:type="dcterms:W3CDTF">2011-04-05T04:07:42Z</dcterms:modified>
  <cp:revision>25</cp:revision>
  <dc:subject/>
  <dc:title>Slide 1</dc:title>
</cp:coreProperties>
</file>